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FEB9-9037-4C78-8AD0-F62AEE2A4B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77933c"/>
                </a:solidFill>
                <a:latin typeface="Calibri"/>
              </a:rPr>
              <a:t>НОУ ВПО «Российский Новый Университет» (РосНОУ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СИХОЛОГИЧЕСКОЕ консульт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И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7484-44F2-4294-B6C5-618AB64EACB5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В настоящее время особую важность приобретает подготовка высококвалифицированных кадров психологов-консультантов для таких областей и сфер как образование, здравоохранение, социальная защита, спорт и  т.п., а также для решения широкого класса задач в системах управления, государственной службы и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Для подготовки таких кадров разработана программа профессиональной переподготовки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 Слушатели, прошедшие подготовку по данной программе, получают знания о психологических основах личности, навыки и умения по психодиагностике, консультированию, психокор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На данной программе обучающиеся знакомятся с различными направлениями в консультативной и психокоррекционной работе, овладеют методами и методиками психологического консультирования, проектирования приемов психологического воздействия и помощи личности, способствующих личностному росту, а также компенсации и коррекции отклонений в развити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85F0-CD64-4490-A766-C3EDB63B4125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Цель программы 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 - подготовка высококвалифицированных психологов-практиков, сочетающих достаточно высокий уровень с умениями анализировать и решать на практике широкий круг проблем: личных, межличностных, семейных, сексуальных, детских, родительских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По окончании обучения 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по программе профессиональной переподготовки слушатели должны </a:t>
            </a:r>
            <a:r>
              <a:rPr b="0" i="1" lang="ru-RU" sz="2400" spc="-1" strike="noStrike">
                <a:solidFill>
                  <a:srgbClr val="77933c"/>
                </a:solidFill>
                <a:latin typeface="Calibri"/>
              </a:rPr>
              <a:t>уметь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диагностировать, применять имеющиеся методы исследования лич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оказывать психологическую помощь лицам, испытывающим трудности личностного выбора, в ситуациях потери и горя, острой и хронической тревоги, стресса, при сниженной самооценке, неуверенности в себе, в ситуациях трудного выбора и многих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FE21-A0FD-432F-B4FB-42EF06212808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рограмма разработана для профессиональной переподготовки кадров, желающих получить навыки и умения в области психологического консультирования. Слушатели, проходящие обучение по данной программе, должны иметь высшее профессиональное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Изучение дисциплин проводится </a:t>
            </a:r>
            <a:r>
              <a:rPr b="0" i="1" lang="ru-RU" sz="1200" spc="-1" strike="noStrike">
                <a:solidFill>
                  <a:srgbClr val="77933c"/>
                </a:solidFill>
                <a:latin typeface="Calibri"/>
              </a:rPr>
              <a:t>без отрыва 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слушателей от работы (в группе выходного дня) и предполагает проведение лекционных, семинарских и тренинговых занятий для изучения теоретических и практических основ психологического консульт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о завершении обучения слушатели защищают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ыпускную  аттестационную работу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E762-0BF4-471A-AF42-38A337BA1DEA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лушателям, освоившим программу дополнительного профессионального образования и успешно прошедшим государственную итоговую аттестацию, </a:t>
            </a:r>
            <a:r>
              <a:rPr b="1" i="1" lang="ru-RU" sz="1400" spc="-1" strike="noStrike">
                <a:solidFill>
                  <a:srgbClr val="77933c"/>
                </a:solidFill>
                <a:latin typeface="Calibri"/>
              </a:rPr>
              <a:t>присваивается право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(соответствие квалификации) на ведение профессиональной деятельности в сфере психологического консультирования и психокор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AAEC-B5B8-480C-BCD0-C1C70B048284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7933c"/>
                </a:solidFill>
                <a:latin typeface="Calibri"/>
              </a:rPr>
              <a:t>   </a:t>
            </a:r>
            <a:r>
              <a:rPr b="1" lang="ru-RU" sz="1100" spc="-1" strike="noStrike">
                <a:solidFill>
                  <a:srgbClr val="77933c"/>
                </a:solidFill>
                <a:latin typeface="Calibri"/>
              </a:rPr>
              <a:t>РАЗДЕЛЫ ПРОГРАММЫ ПРОФЕССИОНАЛЬНОЙ ПЕРЕПОДГОТОВКИ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бщ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оциальн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озрастная психология и психологи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ы клинической психологии и психосо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Дифференциальная 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критических си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Гендерн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ы психо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ческий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ведение в практическую психолог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Индивидуальн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Группов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емейн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ные направления в психоконсультировании и в психокор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E8F7-9003-4181-A5BD-C8398C24421B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968-6962-49E8-AE98-2C2448A0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9DE-C67D-4BBF-BB26-9A56DCB4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361F2-9C9D-4664-BF71-67344ED9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60146-37EF-4A49-8AE6-31431777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2C394-5697-4D2F-A271-1F10E6C9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77B2D-6497-46E2-8730-B0699930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CC0F8-031C-42B9-836D-98CFDF3B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F3C8E-BE7E-4A86-BC41-8BC84738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2958F-8BA3-4E26-B25F-02B63145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28BD5-4167-4B9B-927C-82775A2F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3B535-1D38-4856-8F88-4427FAFD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366DA-761B-4BEE-BA8C-63AAB834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F0F-9FB3-4327-B0BF-1327E49F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760B79-12E3-409A-8464-CBDDA178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2221A6-8009-4394-AAD6-EFB23FE0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754CB-73B7-4DD0-BB55-8709A96A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DD9069-17C4-4A49-B10A-67ED809A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454EBB-C389-41D2-A6A1-B3D38B23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D2671-0AE1-42E7-AEB4-89DE6777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62912-9603-4A47-9AB6-39B84DED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C2D7F-2932-47F9-9E2C-88FBD64B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4DDCB4-2317-4A53-A259-F4EFC4B8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8C1B2-9942-49E4-B01C-012F4652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FEA-17D1-4210-AF00-A805C073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CD99D2-11E2-4C8F-B201-8F9C41BD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140B5-FE5E-435B-9D46-3A9DCA32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A0DB0-31E6-41AA-AADE-ED5A7CC5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9980B-3D1E-4E39-A799-760CBCE4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06553-BC29-4C99-B767-79247FC9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8392B-28D2-4735-8137-E4ED0A8D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D67B5-A391-4B49-9985-4D4F3EA2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1012E-5468-423E-A193-C8F41BF9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1A5D2-91E5-40A9-B121-D2199EAC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065F4-7B7A-4ACE-995C-9B63A766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B956-BEEB-4F39-8042-7BB7FA67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4C8E0-E034-4AD8-8F8F-76715A56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10D79-9411-4BA6-9646-17AD7018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168C8-409B-455D-A17D-BDAA4340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41884-850B-440B-AAAA-0727AE36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30C6F-89BC-49A4-ABD9-D9984618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49770-BACE-4757-91A4-D44FCA9A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57DA8-5F9F-4610-AEC4-F2FEF451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B79A0-72B2-4FEF-AD44-1A561B45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0F4E3-01C8-4F3A-B86C-4C45C69B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82683-0B3A-4E40-BA6E-04BDA7E0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3B10-6018-4391-BC15-A8154E99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398C6-2495-4986-A5A6-9A3555A7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10E50-7DEB-447B-8DB6-E8A88B82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F6A7BE-0F31-4C49-87A4-8850F16F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32EE8-1348-4282-ACAD-10925F5A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DB139-C1A5-4CA9-857B-C4D9C3B1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13E4-4A3E-469C-9C97-53F854F8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333A-B29F-46F0-A0A2-2BF1E720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CC30-7D03-42F1-B4C5-FB1F8026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4E31-207F-4B95-B8B2-BF764B43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A4C8-AA7B-4083-A8FD-8CAFC7B9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2490-BAF7-4C44-9FBB-89F3EB8E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B0AB-CD4E-4B68-B68F-7B7E1470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AE17-DB2D-4E45-B2B0-931541E5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E452-1106-44DD-899E-29B21CFC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413B-9438-47B3-9A70-88A404BA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6989-E2C8-45FE-8711-4695A27B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D5DD8-D108-47A3-BF7A-457969DA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1F3D6-C252-4EDB-B7FD-827B5EDA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F9BD1-E5FF-41AC-8F64-33B6F6C1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8436A-57FB-41F2-9A04-2733528F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1839B-4F1A-4E42-B8D9-705818D9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701-F1CC-4B67-8971-EAA90DD6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FA42-36F3-429C-9D34-A6D5153D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C735-F328-46E6-AF7C-0281CDEE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6667-3A91-4CB2-9ED1-76F22FA8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1C1D9-A217-4698-A995-045AA8F4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C4AB4-4C27-4898-AA01-C7D38C34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E5331-E109-4241-B965-8278CE90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E2A08-A907-43A8-B9DF-594ED680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637C4-CC21-46B5-8B22-D65AF9BC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2F8B2-E3D1-41A9-B0FD-E4A26352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53070-8762-4905-B3B9-6E1D26D0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B03-59DE-4694-BFCE-40E1F3FF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F1926-6B75-4E7F-A488-C053B00A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AB93A-D94B-4702-8484-5EB46836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C1725-CEF4-4426-B7A6-776916E5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DCA48-4556-415D-9936-3F1E9124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3A3FC-C31D-4AE8-B278-90E996E3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F3245-5234-439E-B08A-098DFBD7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D86E4-1B23-4BE1-AE2A-45A39834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E1F17-0E58-49A8-AF9F-B96C2DB9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B3DFF-22FD-4F47-930B-B97EA8CF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9C400-D437-4BB2-9575-46D55A08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216C-F429-43DA-A69F-903640AE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1E917-84BC-47FD-A2F9-76F4884B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65BF2-E763-432C-8034-5EFA679C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4F3A4-CEE2-4E31-B821-1A285DAD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3070A-ED66-45C0-8488-3C5ED6E1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7A51A-56D8-4AFA-B964-E0B4BB90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E796F-F3AE-4595-B76A-05A995D8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3CFFD-CA06-4EEF-B6D8-343505CB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0641A-0A3C-4113-8086-81A682B6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451FA-B84F-4D68-83A3-725AEF62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507AF-12C1-4C76-9E9E-AAA9087B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DEA-45AC-4938-B9CC-FBDFA774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3EE0B-2569-4386-9AEB-6FA8DEDD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F246A-38AF-40C0-BEE7-1859D089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4FA97-5899-4147-A541-93805020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F2EF8-884D-4BA3-A6A0-84E66148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150F2-536D-40B4-BDB1-3D784D53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92120-220C-4D13-A797-DC58DA58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E4B31-B710-4EC5-93D3-1F279D79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52D9B-5AE8-4A74-B4C8-433FA1AF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2CDFD-E9E8-42BE-B4CE-BD5DA9CD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5437C-39BA-4CDA-B3A7-7ABED4B0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937-CA01-47B2-A15F-634BD375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514DA-A878-4DB6-BB85-C06398E3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5ED7F-EC79-49F2-9958-D14FA4D9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44D3C-CA1D-4208-AF6D-D1CAA223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4B08A-CC63-482D-AEE0-40123B21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E531F-FD33-4384-A863-22AED338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BC2AE-0F51-47C2-9455-D52FF6A0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6FBDB-D2D9-4254-89C6-32439DEC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58BDF-23ED-4EFB-BE42-31CBB07F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FFC45-67F7-4328-9FF2-920181B6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405D4-084D-4233-83C5-BF4052E1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25DC-E8CA-4BAC-BA9C-DDA8ED9C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B179F-7510-464F-8CEE-A2113DBE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7C088-B278-4FA8-80BE-76C8914B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863E5-A6CB-44CA-9C2C-E8BBE3BE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7D906-519F-493C-80E3-5146C72D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881E2-7223-4DD9-A0A5-99571311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6D5C8-42C7-4683-A2F5-0A9E7237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ED0A1-B6BF-4223-BF8C-F696EDBD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5909A-D1A0-45B7-870E-195EBBE6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D28C9-C4C6-47E3-8FBF-7F6A3CAB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A2276-B771-4713-B2F1-95D97B8E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0A8-FBC8-46CE-9BF2-61FB368D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78965-6896-4CDF-A4B1-6829A088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CFCD0-28FA-462D-AFCE-F4EA3390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2E223-532D-4EC8-AE89-6BDC111D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DDDE0-C1BA-48F6-AB80-FAF2AB62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4DCE3-52DD-4E3D-890A-4CCE4C83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2CEED-13E0-4507-BF3A-F8137053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FE1C1-889D-470B-859E-63BC7472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DF180-60B8-418F-990B-4B0DD9D4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C9C4D-F997-4AE9-B029-36AE020F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74F5F-6A20-4A05-BB55-3E331471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986F-9F31-4BAE-AF43-4F2F7632C83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25B7-46E1-41A9-B2FD-79E99B128343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AFC3-F021-4BD2-BEC4-C909B8F2EA0E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0D05-FEEC-4598-98D0-431C3AEFBAF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81FC-8F85-4F95-B81A-08C2E2BBAC8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3C2C-6E42-401D-BF0E-9AAB57B2613E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022F-B7D8-4823-947F-9C4BC4E763B6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2109-A23B-4784-B4AD-897CC2AF628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8A2E-BFBF-464A-990A-07E7894F31C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D3A9-8987-45A8-86AD-0243B053150B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B1E9-554A-42DB-9DF3-249BB3716C4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8F5A-DBE5-4FC8-A557-7607BB7E3E0F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05A3-27CA-44C0-907B-57EE62B3FD1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46E7-E5C5-4261-B07E-1D287F94DCCF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417E-504D-45AD-B214-C58A6B35776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9086-AEC5-43B1-A75D-B7E99E84AD1D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E150-7EF5-42A5-9159-7BFBDBC829B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DF5E-61C6-4E9A-A81F-4E0BDCB19692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94C1-0352-40DA-A677-52F81E8202D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75D8-12F2-4443-8702-6F3788E90EA0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46E5-310D-48FD-A64F-E1ABBF2805D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DB50-ADDE-4D1D-9C04-17755D1C425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5AA2-3BF7-484C-A2C0-57EF39B71ED5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8B08-8FE2-4A39-A2A1-54E7E0E142C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7416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425d"/>
                </a:solidFill>
                <a:latin typeface="Georgia"/>
              </a:rPr>
              <a:t>ПСИХОЛОГИЧЕСКОЕ КОНСУЛЬТИРОВАН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Georgia"/>
              </a:rPr>
              <a:t>И</a:t>
            </a:r>
            <a:r>
              <a:rPr b="1" lang="ru-RU" sz="3200" spc="-1" strike="noStrike">
                <a:solidFill>
                  <a:srgbClr val="14425d"/>
                </a:solidFill>
                <a:latin typeface="Georgia"/>
              </a:rPr>
              <a:t> ПСИХОКОРРЕК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31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НОУ ВПО «Российский Новый Университет» (РосНОУ)</a:t>
            </a:r>
            <a:endParaRPr b="0" lang="en-US" sz="1400" spc="-1" strike="noStrike">
              <a:solidFill>
                <a:srgbClr val="164c6c"/>
              </a:solidFill>
              <a:latin typeface="Georgia"/>
            </a:endParaRPr>
          </a:p>
        </p:txBody>
      </p:sp>
      <p:pic>
        <p:nvPicPr>
          <p:cNvPr id="615" name="Рисунок 3" descr="Bezymyannyjj.jpg"/>
          <p:cNvPicPr/>
          <p:nvPr/>
        </p:nvPicPr>
        <p:blipFill>
          <a:blip r:embed="rId1"/>
          <a:stretch/>
        </p:blipFill>
        <p:spPr>
          <a:xfrm>
            <a:off x="324000" y="622440"/>
            <a:ext cx="2809800" cy="172404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4" descr="Soy-Yer-Dough-Image-Blog123.jpg"/>
          <p:cNvPicPr/>
          <p:nvPr/>
        </p:nvPicPr>
        <p:blipFill>
          <a:blip r:embed="rId2"/>
          <a:stretch/>
        </p:blipFill>
        <p:spPr>
          <a:xfrm>
            <a:off x="5797440" y="622440"/>
            <a:ext cx="2876760" cy="1724040"/>
          </a:xfrm>
          <a:prstGeom prst="rect">
            <a:avLst/>
          </a:prstGeom>
          <a:ln w="0">
            <a:noFill/>
          </a:ln>
        </p:spPr>
      </p:pic>
      <p:sp>
        <p:nvSpPr>
          <p:cNvPr id="617" name="Місце для нижнього колонтитула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178920" y="1484280"/>
            <a:ext cx="86266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В настоящее время особую важность приобретает подготовка высококвалифицированных кадров психологов-консультантов для таких областей и сфер как образование, здравоохранение, социальная защита, спорт и  т.п., а также для решения широкого класса задач в системах управления, государственной службы и социальной защиты населе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Для подготовки таких кадров разработана программа профессиональной переподготовки </a:t>
            </a:r>
            <a:r>
              <a:rPr b="1" lang="ru-RU" sz="18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 Слушатели, прошедшие подготовку по данной программе, получают знания о психологических основах личности, навыки и умения по психодиагностике, консультированию, психокоррекци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На данной программе обучающиеся знакомятся с различными направлениями в консультативной и психокоррекционной работе, овладеют методами и методиками психологического консультирования, проектирования приемов психологического воздействия и помощи личности, способствующих личностному росту, а также компенсации и коррекции отклонений в развитии личност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347640" y="1527120"/>
            <a:ext cx="5457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4425d"/>
                </a:solidFill>
                <a:latin typeface="Georgia"/>
              </a:rPr>
              <a:t>Цель программы 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 - подготовка высококвалифицированных психологов-практиков, сочетающих достаточно высокий уровень с умениями анализировать и решать на практике широкий круг проблем: личных, межличностных, семейных, сексуальных, детских, родительских и др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4425d"/>
                </a:solidFill>
                <a:latin typeface="Georgia"/>
              </a:rPr>
              <a:t>По окончании обучения 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по программе профессиональной переподготовки слушатели должны </a:t>
            </a:r>
            <a:r>
              <a:rPr b="0" i="1" lang="ru-RU" sz="1700" spc="-1" strike="noStrike">
                <a:solidFill>
                  <a:srgbClr val="14425d"/>
                </a:solidFill>
                <a:latin typeface="Georgia"/>
              </a:rPr>
              <a:t>уметь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диагностировать, применять имеющиеся методы исследования личности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оказывать психологическую помощь лицам, испытывающим трудности личностного выбора, в ситуациях потери и горя, острой и хронической тревоги, стресса, при сниженной самооценке, неуверенности в себе, в ситуациях трудного выбора и многих других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Рисунок 4" descr="x_da403202.jpg"/>
          <p:cNvPicPr/>
          <p:nvPr/>
        </p:nvPicPr>
        <p:blipFill>
          <a:blip r:embed="rId1"/>
          <a:stretch/>
        </p:blipFill>
        <p:spPr>
          <a:xfrm>
            <a:off x="249120" y="1487520"/>
            <a:ext cx="3170520" cy="2876400"/>
          </a:xfrm>
          <a:prstGeom prst="rect">
            <a:avLst/>
          </a:prstGeom>
          <a:ln w="0">
            <a:noFill/>
          </a:ln>
        </p:spPr>
      </p:pic>
      <p:sp>
        <p:nvSpPr>
          <p:cNvPr id="6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250560" y="1483920"/>
            <a:ext cx="554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Программа разработана для профессиональной переподготовки кадров, желающих получить навыки и умения в области психологического консультирования. Слушатели, проходящие обучение по данной программе, должны иметь высшее профессиональное образовани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Изучение дисциплин проводится </a:t>
            </a:r>
            <a:r>
              <a:rPr b="0" i="1" lang="ru-RU" sz="1800" spc="-1" strike="noStrike">
                <a:solidFill>
                  <a:srgbClr val="14425d"/>
                </a:solidFill>
                <a:latin typeface="Georgia"/>
              </a:rPr>
              <a:t>без отрыва 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слушателей от работы (в группе выходного дня) и предполагает проведение лекционных, семинарских и тренинговых занятий для изучения теоретических и практических основ психологического консультирова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По завершении обучения слушатели защищают </a:t>
            </a:r>
            <a:r>
              <a:rPr b="1" lang="ru-RU" sz="1800" spc="-1" strike="noStrike">
                <a:solidFill>
                  <a:srgbClr val="14425d"/>
                </a:solidFill>
                <a:latin typeface="Georgia"/>
              </a:rPr>
              <a:t>выпускную  аттестационную работу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Рисунок 3" descr="img1.png"/>
          <p:cNvPicPr/>
          <p:nvPr/>
        </p:nvPicPr>
        <p:blipFill>
          <a:blip r:embed="rId1"/>
          <a:stretch/>
        </p:blipFill>
        <p:spPr>
          <a:xfrm>
            <a:off x="5940360" y="1484280"/>
            <a:ext cx="2905200" cy="240984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4" descr="img3.png"/>
          <p:cNvPicPr/>
          <p:nvPr/>
        </p:nvPicPr>
        <p:blipFill>
          <a:blip r:embed="rId2"/>
          <a:stretch/>
        </p:blipFill>
        <p:spPr>
          <a:xfrm>
            <a:off x="5940360" y="3933720"/>
            <a:ext cx="2933640" cy="240984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250920" y="1412640"/>
            <a:ext cx="85550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Слушателям, освоившим программу дополнительного профессионального образования и успешно прошедшим государственную итоговую аттестацию, </a:t>
            </a:r>
            <a:r>
              <a:rPr b="1" i="1" lang="ru-RU" sz="1800" spc="-1" strike="noStrike">
                <a:solidFill>
                  <a:srgbClr val="14425d"/>
                </a:solidFill>
                <a:latin typeface="Georgia"/>
              </a:rPr>
              <a:t>присваивается право </a:t>
            </a: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(соответствие квалификации) на ведение профессиональной деятельности в сфере психологического консультирования и психокоррекц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Рисунок 3" descr="Diplom_PP_1.jpg"/>
          <p:cNvPicPr/>
          <p:nvPr/>
        </p:nvPicPr>
        <p:blipFill>
          <a:blip r:embed="rId1"/>
          <a:stretch/>
        </p:blipFill>
        <p:spPr>
          <a:xfrm>
            <a:off x="2255760" y="2700360"/>
            <a:ext cx="6291360" cy="3621240"/>
          </a:xfrm>
          <a:prstGeom prst="rect">
            <a:avLst/>
          </a:prstGeom>
          <a:ln w="0">
            <a:noFill/>
          </a:ln>
        </p:spPr>
      </p:pic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Рисунок 4" descr="artterapy5.jpg"/>
          <p:cNvPicPr/>
          <p:nvPr/>
        </p:nvPicPr>
        <p:blipFill>
          <a:blip r:embed="rId1"/>
          <a:stretch/>
        </p:blipFill>
        <p:spPr>
          <a:xfrm>
            <a:off x="4286160" y="2133720"/>
            <a:ext cx="4608720" cy="3743280"/>
          </a:xfrm>
          <a:prstGeom prst="rect">
            <a:avLst/>
          </a:prstGeom>
          <a:ln w="0">
            <a:noFill/>
          </a:ln>
        </p:spPr>
      </p:pic>
      <p:pic>
        <p:nvPicPr>
          <p:cNvPr id="631" name="Рисунок 6" descr="sayfa-zzsfva1hmi6ulvmyx65i3dqagn4zcc5m6iu5zgdxzmazqv875q.jpg"/>
          <p:cNvPicPr/>
          <p:nvPr/>
        </p:nvPicPr>
        <p:blipFill>
          <a:blip r:embed="rId2"/>
          <a:stretch/>
        </p:blipFill>
        <p:spPr>
          <a:xfrm>
            <a:off x="176040" y="189000"/>
            <a:ext cx="3316320" cy="1079280"/>
          </a:xfrm>
          <a:prstGeom prst="rect">
            <a:avLst/>
          </a:prstGeom>
          <a:ln w="0">
            <a:noFill/>
          </a:ln>
        </p:spPr>
      </p:pic>
      <p:pic>
        <p:nvPicPr>
          <p:cNvPr id="632" name="Рисунок 8" descr="k6024759.jpg"/>
          <p:cNvPicPr/>
          <p:nvPr/>
        </p:nvPicPr>
        <p:blipFill>
          <a:blip r:embed="rId3"/>
          <a:stretch/>
        </p:blipFill>
        <p:spPr>
          <a:xfrm>
            <a:off x="5651640" y="189000"/>
            <a:ext cx="3316320" cy="10792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25056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   </a:t>
            </a: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РАЗДЕЛЫ ПРОГРАММЫ ПРОФЕССИОНАЛЬНОЙ ПЕРЕПОДГОТОВКИ </a:t>
            </a: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бщ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Социальн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личност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Возрастная психология и психология развит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ы клинической психологии и психосоматик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Дифференциальная 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критических ситуаций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здоровь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Гендерн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ы психодиагностик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ческий практикум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Введение в практическую психологию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Индивидуальн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Группов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Семейн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ные направления в психоконсультировании и в психокоррекци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1:33:33Z</dcterms:created>
  <dc:creator>ni-jakovleva</dc:creator>
  <dc:description/>
  <dc:language>en-US</dc:language>
  <cp:lastModifiedBy>LEGION</cp:lastModifiedBy>
  <dcterms:modified xsi:type="dcterms:W3CDTF">2014-11-12T09:35:57Z</dcterms:modified>
  <cp:revision>29</cp:revision>
  <dc:subject/>
  <dc:title>НОУ ВПО «Российский Новый Университет» (РосНОУ)</dc:title>
</cp:coreProperties>
</file>